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4D2-28AE-4D79-9BAD-07EF35EA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61E-10DB-45D8-A819-FB81211F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A78-0684-490B-832B-B82B7A4A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8F8-52AC-43E9-804D-3ED67A78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390-5B12-4275-BDE8-C68158B5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D63-0773-460B-9A67-E1834050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2C2-9C82-44D7-874C-6A255737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B82-C178-445B-B5CF-C3D2C86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F5A-E034-494E-BE76-2F2FAF9F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F20-7837-4433-A6D6-3226A7E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D80-36E0-4B66-9DB9-D23B175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F42-1B38-4A75-9F78-A376D07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D463-AFA6-4A36-9860-2BCEAC9270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nock Valley Ex Presidents"/>
          <p:cNvPicPr/>
          <p:nvPr/>
        </p:nvPicPr>
        <p:blipFill>
          <a:blip r:embed="rId1"/>
          <a:stretch/>
        </p:blipFill>
        <p:spPr>
          <a:xfrm>
            <a:off x="452520" y="28584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am O'Shanter Club"/>
          <p:cNvPicPr/>
          <p:nvPr/>
        </p:nvPicPr>
        <p:blipFill>
          <a:blip r:embed="rId2"/>
          <a:stretch/>
        </p:blipFill>
        <p:spPr>
          <a:xfrm>
            <a:off x="2238480" y="285840"/>
            <a:ext cx="9874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  PRESIDENTS     TAM  O’SHANTER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9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8:56:55Z</dcterms:created>
  <dc:creator>HP authorized customer</dc:creator>
  <dc:description/>
  <dc:language>en-US</dc:language>
  <cp:lastModifiedBy>John</cp:lastModifiedBy>
  <dcterms:modified xsi:type="dcterms:W3CDTF">2010-02-14T14:26:20Z</dcterms:modified>
  <cp:revision>7</cp:revision>
  <dc:subject/>
  <dc:title>Slide 1</dc:title>
</cp:coreProperties>
</file>